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7A1-7644-48E3-A2AA-D33A8BCF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E49-253A-4C22-B6BA-D5B9B231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FAA-0CE1-4A10-9F45-5A38388A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F81-7A84-472F-92FC-698840C0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4BDF-4BC6-4D75-A13C-51973DB2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392-4FDA-485F-ADB2-E8F68E2E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03F5-A5A9-4F5B-B1BB-8782FD94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6A69-A599-42ED-84B7-1FD1333D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320F-5706-4589-8C97-76079DC2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F5DD-1A85-46FC-949A-743E1CDD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626E-0A19-41B8-9CC4-B0139B0C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74C-898F-4F9C-A7BE-A30C2842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B131-6696-431F-A030-F2FF171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2DE3-D8BD-4BE0-B8D3-5D7433E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F9F2-0F47-4A99-B32C-D2CF66FB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29A3-A725-45A7-A2E4-43766A80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2089-CF31-474A-A4CC-78278A66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9ED-89FF-40D1-999B-076B8C39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151-1544-4018-B45A-B5B33A88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72C-5CCE-4015-8204-1CA0D9E6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E49-B5C5-498D-A80C-3418AAD6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0FA-B42B-4F19-981D-D294F7A2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E0C-CC16-4D57-B0F9-28C1F10C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585-F38E-4747-B7E8-44C75B7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E33C-D900-4AD7-BCD6-FF4CE637F9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C437-80A8-4697-B4F5-DA25DEA5A3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88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полнительная поддержка </a:t>
            </a:r>
            <a:br>
              <a:rPr sz="4000"/>
            </a:b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раждан, переселяемых из аварийного жилищного фон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745080" cy="1944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4041720" y="26028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Министерство строительства,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архитектуры и территориального развития Ростов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067280" y="1844640"/>
            <a:ext cx="49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</a:rPr>
              <a:t>ГБУ РО «Агентство жилищных программ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5280" y="583740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1"/>
          <p:cNvSpPr/>
          <p:nvPr/>
        </p:nvSpPr>
        <p:spPr>
          <a:xfrm>
            <a:off x="826920" y="0"/>
            <a:ext cx="74170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ьготное ипотечное кредитование граждан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 Дисконт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79280" y="836640"/>
            <a:ext cx="85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6092"/>
                </a:solidFill>
                <a:latin typeface="Times New Roman"/>
              </a:rPr>
              <a:t>Постановление Правительства Ростовской области от 05.09.2018  № 5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08000" y="1268280"/>
            <a:ext cx="8745480" cy="1557000"/>
          </a:xfrm>
          <a:prstGeom prst="rect">
            <a:avLst/>
          </a:prstGeom>
          <a:noFill/>
          <a:ln w="31680">
            <a:solidFill>
              <a:srgbClr val="b7de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Предоставление гражданам ипотечных кредитов с процентной ставкой,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ниженной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на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4,5 процентных пункта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от размера базовой процентной ставки, установл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АО Банк «ДОМ.РФ»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на весь срок кредитования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3429000"/>
          <a:ext cx="7704000" cy="100656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1006560"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Ставка для граждан, переселяемых из аварийного фо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от 3,6%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1042920" y="28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</a:rPr>
              <a:t>Банк-партнер ООО КБ «Ростфинанс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24000" y="6453360"/>
            <a:ext cx="88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 первоначальный взнос от 20%, подтверждение дохода и занятости выпиской из Пенсионного фонда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971640" y="4508640"/>
            <a:ext cx="7488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Граждане, переселяемые из аварийного жилищного фонда, будут участвовать в «Дисконте» в особом порядке</a:t>
            </a:r>
            <a:r>
              <a:rPr b="0" i="1" lang="en-US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- право участия в первоочередном порядке</a:t>
            </a:r>
            <a:r>
              <a:rPr b="0" i="1" lang="en-US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- без оценки нуждаемости</a:t>
            </a:r>
            <a:r>
              <a:rPr b="0" i="1" lang="en-US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- вне зависимости от  ранее полученной господдержки</a:t>
            </a:r>
            <a:r>
              <a:rPr b="0" i="1" lang="en-US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- без требований к площади приобретаемого жилья</a:t>
            </a:r>
            <a:r>
              <a:rPr b="0" i="1" lang="en-US" sz="1800" spc="-1" strike="noStrike">
                <a:solidFill>
                  <a:srgbClr val="31859c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224000" cy="974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536400" cy="990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962440" y="189000"/>
            <a:ext cx="55702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</a:rPr>
              <a:t>Примерный расчет для граждан, участвующих в «Дисконт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1f497d"/>
                </a:solidFill>
                <a:latin typeface="Times New Roman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755640" y="1197000"/>
            <a:ext cx="8205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1f497d"/>
                </a:solidFill>
                <a:uFillTx/>
                <a:latin typeface="Times New Roman"/>
              </a:rPr>
              <a:t>   </a:t>
            </a:r>
            <a:r>
              <a:rPr b="1" i="1" lang="ru-RU" sz="1800" spc="-1" strike="noStrike" u="sng">
                <a:solidFill>
                  <a:srgbClr val="1f497d"/>
                </a:solidFill>
                <a:uFillTx/>
                <a:latin typeface="Times New Roman"/>
              </a:rPr>
              <a:t>Исходные данн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Times New Roman"/>
              </a:rPr>
              <a:t>Состав семьи – 3 человека                                                        Первоначальный взнос – 2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1f497d"/>
                </a:solidFill>
                <a:latin typeface="Times New Roman"/>
              </a:rPr>
              <a:t>Место приобретения – г. Ростов-на-Дону                               Срок кредита – 20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497d"/>
                </a:solidFill>
                <a:latin typeface="Times New Roman"/>
              </a:rPr>
              <a:t>Стоимость 1 кв.м – 54 900 р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635120" y="2360520"/>
            <a:ext cx="5689440" cy="703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Стоимость жилья площадью 54 к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2 964 600,0 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003640" y="3297240"/>
            <a:ext cx="3456000" cy="7038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Собственные сре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592 920,0 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28600" y="4238640"/>
            <a:ext cx="2733840" cy="642600"/>
          </a:xfrm>
          <a:prstGeom prst="rect">
            <a:avLst/>
          </a:prstGeom>
          <a:solidFill>
            <a:srgbClr val="dbeef4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Ежемесячный платеж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20 582,0 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01600" y="4987800"/>
            <a:ext cx="2744640" cy="916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Ежемесячный платеж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с учетом дискон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13 877,0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89000" y="3297240"/>
            <a:ext cx="3948120" cy="703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</a:rPr>
              <a:t>Ипотечный креди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</a:rPr>
              <a:t>2 371 680,0 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Овал 4"/>
          <p:cNvSpPr/>
          <p:nvPr/>
        </p:nvSpPr>
        <p:spPr>
          <a:xfrm>
            <a:off x="5564160" y="4292640"/>
            <a:ext cx="3521160" cy="165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63a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Экономия на процентах за 20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 906 200,0 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9"/>
          <p:cNvSpPr/>
          <p:nvPr/>
        </p:nvSpPr>
        <p:spPr>
          <a:xfrm>
            <a:off x="2914560" y="5143680"/>
            <a:ext cx="2330640" cy="642600"/>
          </a:xfrm>
          <a:prstGeom prst="rect">
            <a:avLst/>
          </a:prstGeom>
          <a:noFill/>
          <a:ln w="25560">
            <a:solidFill>
              <a:srgbClr val="c3d6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Times New Roman"/>
              </a:rPr>
              <a:t>ставка с дисконт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Times New Roman"/>
              </a:rPr>
              <a:t>3,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1"/>
          <p:cNvSpPr/>
          <p:nvPr/>
        </p:nvSpPr>
        <p:spPr>
          <a:xfrm>
            <a:off x="2926440" y="4376880"/>
            <a:ext cx="2305080" cy="368280"/>
          </a:xfrm>
          <a:prstGeom prst="rect">
            <a:avLst/>
          </a:prstGeom>
          <a:noFill/>
          <a:ln w="25560">
            <a:solidFill>
              <a:srgbClr val="dbeef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Times New Roman"/>
              </a:rPr>
              <a:t>по ставке банка 8,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7280" y="259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</a:rPr>
              <a:t>Максимальные размеры ипотечного кредита для участника «Дискон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-25560" y="260280"/>
            <a:ext cx="536760" cy="993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224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24000" y="1557360"/>
          <a:ext cx="8640720" cy="4110120"/>
        </p:xfrm>
        <a:graphic>
          <a:graphicData uri="http://schemas.openxmlformats.org/drawingml/2006/table">
            <a:tbl>
              <a:tblPr/>
              <a:tblGrid>
                <a:gridCol w="1655640"/>
                <a:gridCol w="1944720"/>
                <a:gridCol w="2087640"/>
                <a:gridCol w="2952720"/>
              </a:tblGrid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Состав семь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Норма предост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Расчетная стоимость ж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Размер ипотечного креди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(90 % от стоимости 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 811 7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 630 53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2 305 8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2 075 22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2 964 6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2 668 14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3 952 8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3 557 52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02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4 941 0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4 446 9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5 929 20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5 336 28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10" name="TextBox 8"/>
          <p:cNvSpPr/>
          <p:nvPr/>
        </p:nvSpPr>
        <p:spPr>
          <a:xfrm>
            <a:off x="250920" y="6021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Times New Roman"/>
              </a:rPr>
              <a:t>*фактический размер ипотечного кредита рассчитывается банком в зависимости от уровня платежеспособности  и параметров приобретаемого о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1476360" y="11592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Условия и порядок получения государственной поддерж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971640" y="1341360"/>
            <a:ext cx="7200720" cy="11912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Подача сформированного личного дела на получение господдержки в ГБУ РО «Агентство жилищных програм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971640" y="2852640"/>
            <a:ext cx="7200720" cy="825480"/>
          </a:xfrm>
          <a:prstGeom prst="rect">
            <a:avLst/>
          </a:prstGeom>
          <a:solidFill>
            <a:srgbClr val="ffff99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дача Свидетельства о праве на участие в льготном ипотечном кредит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619280" y="4076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971640" y="3933720"/>
            <a:ext cx="7200720" cy="11448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3. Приобретение жилья и оформление ипотечного кредита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 срок действия свидетельства – 90 календарных дней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87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72880" y="1249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Личное дело на получение льготного ипотечного кредитования состоит из следующих данных*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689120" cy="934920"/>
          </a:xfrm>
          <a:prstGeom prst="rect">
            <a:avLst/>
          </a:prstGeom>
          <a:ln w="0">
            <a:noFill/>
          </a:ln>
        </p:spPr>
      </p:pic>
      <p:pic>
        <p:nvPicPr>
          <p:cNvPr id="119" name="Схема 6" descr=""/>
          <p:cNvPicPr/>
          <p:nvPr/>
        </p:nvPicPr>
        <p:blipFill>
          <a:blip r:embed="rId2"/>
          <a:stretch/>
        </p:blipFill>
        <p:spPr>
          <a:xfrm>
            <a:off x="828720" y="1616040"/>
            <a:ext cx="7845480" cy="4406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395280" y="609300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* форма заявления и перечень документов размещен на сайт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zh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разделе «Льготное ипотечное кредитование - дисконт» - подразделе «Порядок предоставле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2852640"/>
          <a:ext cx="8702640" cy="3024360"/>
        </p:xfrm>
        <a:graphic>
          <a:graphicData uri="http://schemas.openxmlformats.org/drawingml/2006/table">
            <a:tbl>
              <a:tblPr/>
              <a:tblGrid>
                <a:gridCol w="2257200"/>
                <a:gridCol w="4114800"/>
                <a:gridCol w="2330640"/>
              </a:tblGrid>
              <a:tr h="1500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 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50 % от регионального материнского капит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62,8 тыс.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524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3 или последующий 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00 % от регионального материнского капит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4061"/>
                          </a:solidFill>
                          <a:latin typeface="Times New Roman"/>
                          <a:ea typeface="Times New Roman"/>
                        </a:rPr>
                        <a:t>125,7 тыс.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5"/>
          <p:cNvSpPr/>
          <p:nvPr/>
        </p:nvSpPr>
        <p:spPr>
          <a:xfrm>
            <a:off x="1763640" y="189000"/>
            <a:ext cx="750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Дополнительная мера государствен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поддержки  к «Дисконту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79280" y="203040"/>
            <a:ext cx="1656000" cy="1224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179280" y="6021360"/>
            <a:ext cx="88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Times New Roman"/>
              </a:rPr>
              <a:t>Данный вид бюджетной субсидии предоставляется при рождении детей в течение первых 5 лет пользования льготным ипотечным креди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 flipH="1">
            <a:off x="538920" y="2349360"/>
            <a:ext cx="84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7375e"/>
                </a:solidFill>
                <a:latin typeface="Times New Roman"/>
              </a:rPr>
              <a:t>Постановление Правительства Ростовской области от 18.11.2011 № 1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3964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Бюджетные субсидии при рождении детей на погашение льготного ипотечного кред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1280" y="45720"/>
            <a:ext cx="6284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робную информацию можно получить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4437000"/>
            <a:ext cx="84186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е документы можно представить лично в ГБУ РО «Агентство жилищных программ» либо направить документы по электронной почте - oprg@azhp.ru или почтой России по адресу: ул. Социалистическая, 112, г. Ростов-на-Дону, 34405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граждан в Агентстве ведется по адресу: г. Ростов-на-Дону,                                                      пр. Ворошиловский, 12 (2 этаж), приемные дни и часы: с понедельника по четверг                с 10:00 до 13:00, с 14:00 до 17:00; пятница – неприемный день, суббота и воскресенье – выходные д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ь на прием ведется на сайт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hp.ru –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лайн запись на при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08080" y="260280"/>
            <a:ext cx="1695240" cy="9381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"/>
          <p:cNvSpPr/>
          <p:nvPr/>
        </p:nvSpPr>
        <p:spPr>
          <a:xfrm>
            <a:off x="539640" y="1341360"/>
            <a:ext cx="8353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 официальном сайте ГБУ РО «Агентство жилищных программ» -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hp.ru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разделе «Льготное ипотечное кредитование граждан - дисконт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395280" y="2492280"/>
            <a:ext cx="860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Вопросы можно зад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Times New Roman"/>
              </a:rPr>
              <a:t>- через интернет-приемную на сайте ГБУ РО «Агентство жилищных программ» - azhp.r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Times New Roman"/>
              </a:rPr>
              <a:t>- записавшись на консультацию в режиме онлайн на сайте 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helponline</a:t>
            </a:r>
            <a:r>
              <a:rPr b="1" i="1" lang="ru-RU" sz="1800" spc="-1" strike="noStrike">
                <a:solidFill>
                  <a:srgbClr val="1f497d"/>
                </a:solidFill>
                <a:latin typeface="Times New Roman"/>
              </a:rPr>
              <a:t>.</a:t>
            </a:r>
            <a:r>
              <a:rPr b="1" i="1" lang="en-US" sz="1800" spc="-1" strike="noStrike">
                <a:solidFill>
                  <a:srgbClr val="1f497d"/>
                </a:solidFill>
                <a:latin typeface="Times New Roman"/>
              </a:rPr>
              <a:t>donland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1:20:45Z</dcterms:created>
  <dc:creator>Маша</dc:creator>
  <dc:description/>
  <dc:language>en-US</dc:language>
  <cp:lastModifiedBy>Оксана Кисляк</cp:lastModifiedBy>
  <cp:lastPrinted>2020-09-28T13:36:02Z</cp:lastPrinted>
  <dcterms:modified xsi:type="dcterms:W3CDTF">2021-02-24T07:36:36Z</dcterms:modified>
  <cp:revision>678</cp:revision>
  <dc:subject/>
  <dc:title>Стимулирование рынка жилищного строительства</dc:title>
</cp:coreProperties>
</file>